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5F25-8180-41D6-A399-D3192CC76B0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4D35-1BED-4E39-AB29-E36C0B69061A}" type="slidenum">
              <a:rPr b="0" lang="ja-JP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6DA3-46E2-4DA0-BA37-AA41C56B256E}" type="slidenum">
              <a:rPr b="0" lang="ja-JP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39BE-5C76-43B2-AD1B-2DABCD6481AF}" type="slidenum">
              <a:rPr b="0" lang="ja-JP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35B2-4261-4139-9F82-967AAD0ED1B4}" type="slidenum">
              <a:rPr b="0" lang="ja-JP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2B0B-AD81-4585-9FDC-AF626B57EF42}" type="slidenum">
              <a:rPr b="0" lang="ja-JP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5A22-421D-4CF0-8FD1-AB584B9CC12F}" type="slidenum">
              <a:rPr b="0" lang="ja-JP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F9C6-F13B-4636-91A8-55C7455C5B16}" type="slidenum">
              <a:rPr b="0" lang="ja-JP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7D15-AC73-4B5E-BC17-23CF0AFE853A}" type="slidenum">
              <a:rPr b="0" lang="ja-JP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7A10-0D63-444E-938E-A1258CF4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2D4F-87A5-4D47-89AD-AC61AE4B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EC9-533E-4F80-8B7F-4883BDC5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497-9C89-4DC5-8A70-0875C8C8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1CA-5027-4EEE-AD7B-387E2C7D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09B-B707-4B77-A078-44282343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104E-0FD4-48AC-B311-ED3D76AF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D7AD-A852-4A47-8B7B-68E515EF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63A-5218-4C61-84C7-ED030F1F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BFC-F21B-4471-A5C5-2036F7D6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724D-C3A0-466D-A584-5EFCA089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940-24E3-49C5-A104-EA08D698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125E-C450-47DD-A992-B202033B7109}" type="slidenum">
              <a:rPr b="0" lang="ja-JP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正方形/長方形 4"/>
          <p:cNvSpPr/>
          <p:nvPr/>
        </p:nvSpPr>
        <p:spPr>
          <a:xfrm>
            <a:off x="1071720" y="714240"/>
            <a:ext cx="7429320" cy="5357880"/>
          </a:xfrm>
          <a:prstGeom prst="rect">
            <a:avLst/>
          </a:prstGeom>
          <a:solidFill>
            <a:srgbClr val="fcd5b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図 3" descr="1-2(色）.bmp"/>
          <p:cNvPicPr/>
          <p:nvPr/>
        </p:nvPicPr>
        <p:blipFill>
          <a:blip r:embed="rId2"/>
          <a:stretch/>
        </p:blipFill>
        <p:spPr>
          <a:xfrm>
            <a:off x="1285920" y="928800"/>
            <a:ext cx="69548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図 3" descr="2-2(色）.bmp"/>
          <p:cNvPicPr/>
          <p:nvPr/>
        </p:nvPicPr>
        <p:blipFill>
          <a:blip r:embed="rId2"/>
          <a:stretch/>
        </p:blipFill>
        <p:spPr>
          <a:xfrm>
            <a:off x="444600" y="428760"/>
            <a:ext cx="80470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図 3" descr="3-2(色）.bmp"/>
          <p:cNvPicPr/>
          <p:nvPr/>
        </p:nvPicPr>
        <p:blipFill>
          <a:blip r:embed="rId1"/>
          <a:stretch/>
        </p:blipFill>
        <p:spPr>
          <a:xfrm>
            <a:off x="714240" y="642960"/>
            <a:ext cx="7848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図 3" descr="4-2(色）.bmp"/>
          <p:cNvPicPr/>
          <p:nvPr/>
        </p:nvPicPr>
        <p:blipFill>
          <a:blip r:embed="rId1"/>
          <a:stretch/>
        </p:blipFill>
        <p:spPr>
          <a:xfrm>
            <a:off x="428760" y="428760"/>
            <a:ext cx="82454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図 3" descr="5-2(色）.bmp"/>
          <p:cNvPicPr/>
          <p:nvPr/>
        </p:nvPicPr>
        <p:blipFill>
          <a:blip r:embed="rId2"/>
          <a:stretch/>
        </p:blipFill>
        <p:spPr>
          <a:xfrm>
            <a:off x="500040" y="500040"/>
            <a:ext cx="804708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図 3" descr="6-2(色）.bmp"/>
          <p:cNvPicPr/>
          <p:nvPr/>
        </p:nvPicPr>
        <p:blipFill>
          <a:blip r:embed="rId2"/>
          <a:stretch/>
        </p:blipFill>
        <p:spPr>
          <a:xfrm>
            <a:off x="1762200" y="-6480"/>
            <a:ext cx="7388280" cy="5297760"/>
          </a:xfrm>
          <a:prstGeom prst="rect">
            <a:avLst/>
          </a:prstGeom>
          <a:ln w="0">
            <a:noFill/>
          </a:ln>
        </p:spPr>
      </p:pic>
      <p:grpSp>
        <p:nvGrpSpPr>
          <p:cNvPr id="55" name="円/楕円 6"/>
          <p:cNvGrpSpPr/>
          <p:nvPr/>
        </p:nvGrpSpPr>
        <p:grpSpPr>
          <a:xfrm>
            <a:off x="1054080" y="4979880"/>
            <a:ext cx="677880" cy="682560"/>
            <a:chOff x="1054080" y="4979880"/>
            <a:chExt cx="677880" cy="682560"/>
          </a:xfrm>
        </p:grpSpPr>
        <p:pic>
          <p:nvPicPr>
            <p:cNvPr id="56" name="円/楕円 6" descr=""/>
            <p:cNvPicPr/>
            <p:nvPr/>
          </p:nvPicPr>
          <p:blipFill>
            <a:blip r:embed="rId3"/>
            <a:stretch/>
          </p:blipFill>
          <p:spPr>
            <a:xfrm>
              <a:off x="1054080" y="4979880"/>
              <a:ext cx="677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165320" y="5094360"/>
              <a:ext cx="455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円/楕円 7"/>
          <p:cNvGrpSpPr/>
          <p:nvPr/>
        </p:nvGrpSpPr>
        <p:grpSpPr>
          <a:xfrm>
            <a:off x="695160" y="5699160"/>
            <a:ext cx="536760" cy="463680"/>
            <a:chOff x="695160" y="5699160"/>
            <a:chExt cx="536760" cy="463680"/>
          </a:xfrm>
        </p:grpSpPr>
        <p:pic>
          <p:nvPicPr>
            <p:cNvPr id="59" name="円/楕円 7" descr=""/>
            <p:cNvPicPr/>
            <p:nvPr/>
          </p:nvPicPr>
          <p:blipFill>
            <a:blip r:embed="rId4"/>
            <a:stretch/>
          </p:blipFill>
          <p:spPr>
            <a:xfrm>
              <a:off x="695160" y="5699160"/>
              <a:ext cx="5367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87320" y="5778360"/>
              <a:ext cx="3542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" name="円/楕円 8"/>
          <p:cNvGrpSpPr/>
          <p:nvPr/>
        </p:nvGrpSpPr>
        <p:grpSpPr>
          <a:xfrm>
            <a:off x="341280" y="6199200"/>
            <a:ext cx="426960" cy="384120"/>
            <a:chOff x="341280" y="6199200"/>
            <a:chExt cx="426960" cy="384120"/>
          </a:xfrm>
        </p:grpSpPr>
        <p:pic>
          <p:nvPicPr>
            <p:cNvPr id="62" name="円/楕円 8" descr=""/>
            <p:cNvPicPr/>
            <p:nvPr/>
          </p:nvPicPr>
          <p:blipFill>
            <a:blip r:embed="rId5"/>
            <a:stretch/>
          </p:blipFill>
          <p:spPr>
            <a:xfrm>
              <a:off x="341280" y="6199200"/>
              <a:ext cx="4269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14360" y="6265800"/>
              <a:ext cx="2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図 3" descr="7-2（色）.bmp"/>
          <p:cNvPicPr/>
          <p:nvPr/>
        </p:nvPicPr>
        <p:blipFill>
          <a:blip r:embed="rId2"/>
          <a:stretch/>
        </p:blipFill>
        <p:spPr>
          <a:xfrm>
            <a:off x="285840" y="428760"/>
            <a:ext cx="837072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図 3" descr="8-2(色）.bmp"/>
          <p:cNvPicPr/>
          <p:nvPr/>
        </p:nvPicPr>
        <p:blipFill>
          <a:blip r:embed="rId2"/>
          <a:stretch/>
        </p:blipFill>
        <p:spPr>
          <a:xfrm>
            <a:off x="781200" y="1066680"/>
            <a:ext cx="4943160" cy="3541680"/>
          </a:xfrm>
          <a:prstGeom prst="rect">
            <a:avLst/>
          </a:prstGeom>
          <a:ln w="0">
            <a:noFill/>
          </a:ln>
        </p:spPr>
      </p:pic>
      <p:pic>
        <p:nvPicPr>
          <p:cNvPr id="66" name="図 3" descr="8-2(色）.bmp"/>
          <p:cNvPicPr/>
          <p:nvPr/>
        </p:nvPicPr>
        <p:blipFill>
          <a:blip r:embed="rId3"/>
          <a:stretch/>
        </p:blipFill>
        <p:spPr>
          <a:xfrm>
            <a:off x="4780080" y="3925800"/>
            <a:ext cx="33526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3:13:18Z</dcterms:created>
  <dc:creator>栄養生理学研究室</dc:creator>
  <dc:description/>
  <dc:language>en-US</dc:language>
  <cp:lastModifiedBy>栄養生理学研究室</cp:lastModifiedBy>
  <dcterms:modified xsi:type="dcterms:W3CDTF">2009-12-14T13:37:17Z</dcterms:modified>
  <cp:revision>6</cp:revision>
  <dc:subject/>
  <dc:title>スライド 1</dc:title>
</cp:coreProperties>
</file>